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0E1-D92A-40D7-8CA8-94528ECD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0A5-7094-441F-8243-3D52702F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2AA-15B8-4A33-85ED-BB5AA602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F44-5F39-475C-9E3A-1EDD44B6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E7D-F10E-40DA-BCC5-3C40040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9067-07F7-457F-B778-AF860390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BD5-577E-4D94-906B-14C27C64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8FF-79C4-48E4-9332-80C8A1C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183-6262-4055-9F20-72DFC20D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70F-FB6B-4E13-ABE9-6EE25C6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04A-8CE6-4D8A-9584-6267E1F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D98-0A3C-4C01-9D22-C05B110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6A1-1B88-4654-AB10-E722DC3B155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وض التقديمية على الحاسوب</a:t>
            </a:r>
            <a:br>
              <a:rPr sz="4400"/>
            </a:b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رير السنو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057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صف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ري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914400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2096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تى الآن لم يتم نشر التفاصيل الكاملة للتقا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جاء مراجعة الموقع قبل الخامس والعشرين من الشهر الحالي للحصول على التقرير الكا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أسف لهذا التأخ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5:22:58Z</dcterms:created>
  <dc:creator>Roger</dc:creator>
  <dc:description/>
  <dc:language>en-US</dc:language>
  <cp:lastModifiedBy>MohdA</cp:lastModifiedBy>
  <dcterms:modified xsi:type="dcterms:W3CDTF">2004-08-07T15:28:34Z</dcterms:modified>
  <cp:revision>20</cp:revision>
  <dc:subject/>
  <dc:title>Computer Presen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NCCWork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